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07EC-5E04-4D2D-A64B-2A64768A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47FC-BAA9-4E23-84C6-4B7E5126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1D0-4866-4419-85E1-1CFCE7F0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77A-8A1F-4E3D-A5A0-3E13F65D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E2EE-1EFD-4BB4-AD75-C19120A1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62D2-B2F2-483B-B93F-DE8A6A98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AB49-8A4A-4FC1-9EC5-1219B4FC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2B6D-CAC3-46E6-BBDC-58B0DCFC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8041-66D6-4B2C-BC07-795ED428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CD0D-4407-4375-A9C8-4E67139A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38BC-7A22-4C59-8FC0-5397F55E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8AA-6D3A-4341-BAE7-8CAB1FC2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9693-88B9-4E3F-A7FD-C6F458198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http://wwp.GreenwichMeanTime.com/images/europe/germany.jpg"/>
          <p:cNvPicPr/>
          <p:nvPr/>
        </p:nvPicPr>
        <p:blipFill>
          <a:blip r:embed="rId1"/>
          <a:stretch/>
        </p:blipFill>
        <p:spPr>
          <a:xfrm>
            <a:off x="0" y="1835280"/>
            <a:ext cx="6400800" cy="5022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ne ferien nach Deutsch La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o Ne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esucte das Rathaus gegenuber der Kirch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n ich besucte die Kirche neben die market plat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90720" y="1523880"/>
          <a:ext cx="7238880" cy="459288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n von Ausgebe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te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am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gticket und Hot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7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3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ber p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87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4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hin fahren wir im Urlau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r gehen nach Berlin. Wir fahren mit dem Flugzeu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Fahre nach Berlin von Chicago mit dem Flugzeu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Fahre von Flughaufe zum Hotel mit dem bu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2209680" y="3581280"/>
            <a:ext cx="4648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h Bleiben in Nhow Berlin. Ich bleibe fur seiben nacht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e Nhow hat eine sauna und einen pool es also hat einen Fernsehrau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rcRect l="0" t="12500" r="43751" b="66407"/>
          <a:stretch/>
        </p:blipFill>
        <p:spPr>
          <a:xfrm>
            <a:off x="990720" y="2362320"/>
            <a:ext cx="68580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5magazine.files.wordpress.com/2010/12/nhow_hotel_berlin_1.jpg"/>
          <p:cNvPicPr/>
          <p:nvPr/>
        </p:nvPicPr>
        <p:blipFill>
          <a:blip r:embed="rId2"/>
          <a:stretch/>
        </p:blipFill>
        <p:spPr>
          <a:xfrm>
            <a:off x="2133720" y="4257720"/>
            <a:ext cx="45432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www.europe-trips.eu/Germany/Berlin-Germany.jpg"/>
          <p:cNvPicPr/>
          <p:nvPr/>
        </p:nvPicPr>
        <p:blipFill>
          <a:blip r:embed="rId1"/>
          <a:stretch/>
        </p:blipFill>
        <p:spPr>
          <a:xfrm>
            <a:off x="685800" y="685800"/>
            <a:ext cx="792468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esichtige die Berlin Maur neben den flus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fahren mit der UBahn nach die Stad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esichtige Museumsinsel neben den metzgere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7:13:33Z</dcterms:created>
  <dc:creator>CUSD220</dc:creator>
  <dc:description/>
  <dc:language>en-US</dc:language>
  <cp:lastModifiedBy>Owner</cp:lastModifiedBy>
  <dcterms:modified xsi:type="dcterms:W3CDTF">2012-01-09T02:29:23Z</dcterms:modified>
  <cp:revision>9</cp:revision>
  <dc:subject/>
  <dc:title>Slide 1</dc:title>
</cp:coreProperties>
</file>